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A196-A4C6-410F-9CEB-89507B24A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5DAF-4A17-4523-AA0C-70D94EE0C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0E44-BBCF-4951-9366-C373C96C3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2A92-1ADB-46DE-A6DD-1435F7B0F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666A-98E0-450E-BD39-41B58DB72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BD7B-F7C3-4202-8828-D124440C5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D3B4-E8C6-40FE-896D-BE2045BCA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51D8-E068-40F4-AC21-15022B24E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D2FA-E379-4F87-9CCF-D577350E7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1DF9-3C9D-42D8-BB65-D08C250D4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FCC8-F85B-4756-8356-7217AC4EB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BBAB-6706-4EEB-B379-DBE88BE00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F1F2-FE97-4C37-8336-D4B486BDBF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2C6E-6C55-47E1-8EB1-D6CF51BAC7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nk-Pair-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cognitive processes pose challenges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9784-E231-48C9-B9DC-13E5A99F38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t again with the cognitive processes in mind,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accommodations to better meet needs of students with learning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accommodations already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0564-ECAB-476A-B73C-336EB73AD0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 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95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les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FB2E-1B5B-4AD4-84B2-5238B667B4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331E-926F-47CD-9278-EB5E88BFAB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0136-596E-4B5B-91FF-C4DF2570A0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“foldables”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F848-D628-4D7A-B272-A0D2F289FC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16F9-1914-434F-ABB9-C7BE97CF01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642-5A3D-44C2-9264-75BE4743AB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E879-AA67-495E-8879-17AEB36D34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8618-C159-4E6F-87CB-BEB0CA168F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discuss and expl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gnitive processes, and how they impact students with learning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increase success for students with learning disabilities (e.g. creating fold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50BE-5155-4DA5-92C5-D091066DA6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FB60-5AD0-44CD-802B-C1DE85AF35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38FC-774A-482E-9D2C-003EBCC81B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A0BB-A29D-4002-8AA7-5DE3F8557D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B8AB-8C88-47F4-9739-CA70025357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4A8F-EF16-4228-8A62-8405674F41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3"/>
          <a:stretch/>
        </p:blipFill>
        <p:spPr>
          <a:xfrm>
            <a:off x="1295280" y="29718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6934320" y="2514600"/>
            <a:ext cx="1600200" cy="374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5"/>
          <a:stretch/>
        </p:blipFill>
        <p:spPr>
          <a:xfrm>
            <a:off x="2438280" y="4876920"/>
            <a:ext cx="4192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A8F-575E-4F63-B9BC-E4113D4392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A59E-E116-49DA-830D-F3589B3CD2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29EE-97C9-4821-8B5A-10A32E7772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8A55-AD30-4E37-B392-E0C1F550D1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9665-8DE8-4CF4-9A1D-C447777D0A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09480" y="134928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at the foldable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39F8-55AF-4D97-A109-042269C02F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35080" y="1676520"/>
            <a:ext cx="8680320" cy="3759120"/>
            <a:chOff x="235080" y="1676520"/>
            <a:chExt cx="8680320" cy="3759120"/>
          </a:xfrm>
        </p:grpSpPr>
        <p:pic>
          <p:nvPicPr>
            <p:cNvPr id="5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7652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7180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/>
            <p:cNvSpPr/>
            <p:nvPr/>
          </p:nvSpPr>
          <p:spPr>
            <a:xfrm>
              <a:off x="3664080" y="34290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873760" y="34290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4561-5AEF-4C77-95D3-28A165614E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br>
              <a:rPr sz="2400"/>
            </a:b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DC8D-7643-4751-86D1-CF804FEA11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362320" y="1257480"/>
            <a:ext cx="4495680" cy="3085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2286000" y="4495680"/>
            <a:ext cx="4729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is September, and you are working with a new teacher on lesson plan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Math Camp, you have become more aware of the cognitive processes, and how they impact students with learning dis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2 or 3 pieces of advice could you give to help the teacher plan lessons to better meet the needs of these stud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9E0F-9336-439C-9B7D-2FE86A0CF2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BD3B-88F4-4988-B682-91754317AB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235080" y="1600200"/>
            <a:ext cx="8680320" cy="3809880"/>
            <a:chOff x="235080" y="1600200"/>
            <a:chExt cx="8680320" cy="380988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5096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4624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8"/>
            <p:cNvSpPr/>
            <p:nvPr/>
          </p:nvSpPr>
          <p:spPr>
            <a:xfrm>
              <a:off x="3664080" y="340344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5873760" y="340344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8"/>
            <p:cNvSpPr/>
            <p:nvPr/>
          </p:nvSpPr>
          <p:spPr>
            <a:xfrm>
              <a:off x="4114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9"/>
            <p:cNvSpPr/>
            <p:nvPr/>
          </p:nvSpPr>
          <p:spPr>
            <a:xfrm>
              <a:off x="6400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0"/>
            <p:cNvSpPr/>
            <p:nvPr/>
          </p:nvSpPr>
          <p:spPr>
            <a:xfrm>
              <a:off x="82296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1"/>
            <p:cNvSpPr/>
            <p:nvPr/>
          </p:nvSpPr>
          <p:spPr>
            <a:xfrm>
              <a:off x="3886200" y="43178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76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6096240" y="4313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686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5"/>
            <p:cNvSpPr/>
            <p:nvPr/>
          </p:nvSpPr>
          <p:spPr>
            <a:xfrm>
              <a:off x="3048120" y="160020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Answe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02BE-05BF-4855-9EEA-1EEF61C8AA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387360" y="1523880"/>
            <a:ext cx="8528040" cy="3810240"/>
            <a:chOff x="387360" y="1523880"/>
            <a:chExt cx="8528040" cy="3810240"/>
          </a:xfrm>
        </p:grpSpPr>
        <p:pic>
          <p:nvPicPr>
            <p:cNvPr id="7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523880"/>
              <a:ext cx="58611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"/>
            <p:cNvPicPr/>
            <p:nvPr/>
          </p:nvPicPr>
          <p:blipFill>
            <a:blip r:embed="rId2"/>
            <a:stretch/>
          </p:blipFill>
          <p:spPr>
            <a:xfrm>
              <a:off x="387360" y="2895480"/>
              <a:ext cx="24382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8"/>
            <p:cNvSpPr/>
            <p:nvPr/>
          </p:nvSpPr>
          <p:spPr>
            <a:xfrm>
              <a:off x="3581280" y="327672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5873760" y="327672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DF43-5AC6-40A1-9A42-919E90CA4E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5"/>
          <p:cNvGrpSpPr/>
          <p:nvPr/>
        </p:nvGrpSpPr>
        <p:grpSpPr>
          <a:xfrm>
            <a:off x="304920" y="1828800"/>
            <a:ext cx="8534160" cy="3119400"/>
            <a:chOff x="304920" y="1828800"/>
            <a:chExt cx="8534160" cy="3119400"/>
          </a:xfrm>
        </p:grpSpPr>
        <p:pic>
          <p:nvPicPr>
            <p:cNvPr id="83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197856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2971800" y="1828800"/>
              <a:ext cx="5867280" cy="28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"/>
            <p:cNvSpPr/>
            <p:nvPr/>
          </p:nvSpPr>
          <p:spPr>
            <a:xfrm>
              <a:off x="3595680" y="34578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20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5791320" y="35028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alibri"/>
                </a:rPr>
                <a:t>113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5084-8238-4AD1-8B57-439642E917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C384-2D57-4C44-90C8-F869E6AC77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81640" cy="2209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429000" cy="2214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3808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ps would you give secondary math teachers to help them better meet the needs of students with these types of learning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3520" y="3287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Comprehension –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952880" y="3287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and Decoding – p b d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209680" y="62150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F.A.T. City Workshops (Frustration, Anxiety, Tension), Rick Lavoie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4T14:49:58Z</dcterms:modified>
  <cp:revision>55</cp:revision>
  <dc:subject/>
  <dc:title>&lt;Title&gt;</dc:title>
</cp:coreProperties>
</file>